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9CA-3282-4344-B2AE-644E3E0C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6212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AE1-0F39-453D-9773-30E94893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6212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916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72E-FB06-4E57-8D3B-B4FDF6836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456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70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6212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456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70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312-47B8-4614-915A-B46DC235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CE46-508E-4D0D-8E9B-7FB595A3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1B73-CA03-4EAC-9FC3-9A143ED2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3E84-5745-4B6A-BA43-4A3C0646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892D-D81C-455B-806E-45F9B8BF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B05F-0A5C-4D42-8A26-9BCA1EC8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23924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E6B6-037E-4597-906C-AC301A49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8377-62CC-4A5E-B08D-8DF6F6A5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621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70C-4361-43FA-A5E7-986832D8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7916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538A-FD9C-41CB-A2DD-9E329891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D2FA-E262-4C94-9556-5FF430D5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6212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E7EB-B397-45E0-A7E8-8B8CF9B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6212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7916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D88C-1772-4F69-99FB-70D2F743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7000" y="1447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6212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7000" y="3995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FA03-63DD-4811-B579-F88564F2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AA8-BC5C-47A4-A27D-373C7638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3EC-2FD7-40B9-9C52-B5CD124E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A5B-9F01-46EE-BA5A-57DF379A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23924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970-3348-4D37-AB9E-2D6338C9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FC5-A82D-44AC-A7B8-45158A23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9160" y="3995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EE1-E91F-4A98-9283-EF0C0FB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447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95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F6F-D34E-4D18-80B7-749F7153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sigl.epita.net/" TargetMode="External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1524240" cy="10670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9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1676520" y="1447920"/>
            <a:ext cx="7315200" cy="5029200"/>
          </a:xfrm>
          <a:prstGeom prst="roundRect">
            <a:avLst>
              <a:gd name="adj" fmla="val 70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924680" y="6476760"/>
            <a:ext cx="10670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300D-9387-4B08-98D5-13250E01D1EC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7636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680" y="6629040"/>
            <a:ext cx="1067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slide </a:t>
            </a:r>
            <a:fld id="{B6E8650F-D8A5-450B-8ADF-4CCE46EAB5E9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6320" y="6400800"/>
          <a:ext cx="107316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6400800"/>
                    <a:ext cx="10731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1673280" y="6496200"/>
            <a:ext cx="1150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E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6732720" y="6404040"/>
            <a:ext cx="7920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10280" y="152280"/>
            <a:ext cx="1981440" cy="14479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216080"/>
            <a:ext cx="3733560" cy="24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121608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ttp://www.sigl.epita.n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67160" y="609480"/>
            <a:ext cx="1942920" cy="777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0" y="6400800"/>
            <a:ext cx="9144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7924680" y="6476760"/>
            <a:ext cx="10670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675E-0704-4ED0-B6A2-87ACEFF099DD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27636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7924680" y="6629040"/>
            <a:ext cx="1067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slide </a:t>
            </a:r>
            <a:fld id="{63D9907D-8D7F-47A4-A5A0-A2E12630CC38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3280" y="6496200"/>
            <a:ext cx="1150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E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320" y="6400800"/>
          <a:ext cx="10731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6400800"/>
                    <a:ext cx="10731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6732720" y="6404040"/>
            <a:ext cx="792000" cy="463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99cc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9900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990099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808080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EDL : Phase 6, Suivi 01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cc"/>
                </a:solidFill>
                <a:latin typeface="Tahoma"/>
              </a:rPr>
              <a:t>Sigloo</a:t>
            </a:r>
            <a:endParaRPr b="0" lang="en-US" sz="2400" spc="-1" strike="noStrike">
              <a:solidFill>
                <a:srgbClr val="0099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cc"/>
                </a:solidFill>
                <a:latin typeface="Tahoma"/>
              </a:rPr>
              <a:t>08/11/2002</a:t>
            </a:r>
            <a:endParaRPr b="0" lang="en-US" sz="24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ojet OEDL - Phase 5 Suivi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6A25-D83B-4485-8D14-B64B66E468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DA46038-9D5A-409C-8360-BBC1A823A0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320" y="76320"/>
            <a:ext cx="8991360" cy="6248160"/>
          </a:xfrm>
          <a:prstGeom prst="roundRect">
            <a:avLst>
              <a:gd name="adj" fmla="val 444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Fin </a:t>
            </a: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OEDL - Phase 5 Suivi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3F0-AEAD-4CCA-9CBC-A929DB54989F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63015-C764-4E39-8242-C7F6535C9F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320" y="76320"/>
            <a:ext cx="4462200" cy="3095640"/>
          </a:xfrm>
          <a:prstGeom prst="roundRect">
            <a:avLst>
              <a:gd name="adj" fmla="val 444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3276720"/>
            <a:ext cx="4343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ification de la phas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vancemen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echniqu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OEDL - Phase 5 Suivi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323F-2DBF-4D3D-8543-851C0DBE95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F6A98-A1F3-4936-A77D-F4FDF38261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ification de la phase (1/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0388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291 H prévues sur la phas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Technique 224 H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Management 67 H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Le management représente 29%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Dans le technique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- Réalisation 211 H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- Etude 13 H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80880" y="2438280"/>
          <a:ext cx="4038840" cy="23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438280"/>
                    <a:ext cx="403884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OEDL - Phase 5 Suivi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8FB-A6C2-478B-8C69-06BD6F7771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B4917-E84A-49EC-9F1D-67ACDFD9CF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ification (2/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maine 1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ahoma"/>
              </a:rPr>
              <a:t>Début planification, Intégration des écrans, étude de norme et tests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maine 2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ahoma"/>
              </a:rPr>
              <a:t>Fin planification, Installation des outils pour développement, management développement, Codage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maine 3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ahoma"/>
              </a:rPr>
              <a:t>Manuel Utilisateur, Scénarios tests, Codage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maine 4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ahoma"/>
              </a:rPr>
              <a:t>Manuel Utilisateur, Codage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maine 5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ahoma"/>
              </a:rPr>
              <a:t>Déploiement, Intégration, Manuel Utilisateur, Scénarios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maine 6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Tahoma"/>
              </a:rPr>
              <a:t>Tests fonctionnels, CR des tests, Manuel Utilisateur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OEDL - Phase 5 Suivi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D5A-3520-40DA-B069-BCDD96AD98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D04D7-D8B0-491A-B82A-323249E7DC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ncement Semaine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0388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Technique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cc"/>
                </a:solidFill>
                <a:latin typeface="Tahoma"/>
              </a:rPr>
              <a:t>Heures prévues : 25 H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cc"/>
                </a:solidFill>
                <a:latin typeface="Tahoma"/>
              </a:rPr>
              <a:t>Heures effectuées : 22 H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Avancement -&gt; 9.7%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Manage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cc"/>
                </a:solidFill>
                <a:latin typeface="Tahoma"/>
              </a:rPr>
              <a:t>Heures prévues : 14 H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cc"/>
                </a:solidFill>
                <a:latin typeface="Tahoma"/>
              </a:rPr>
              <a:t>Heures effectuées : 14H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Livrables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cc"/>
                </a:solidFill>
                <a:latin typeface="Tahoma"/>
              </a:rPr>
              <a:t>Etude norme 1063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cc"/>
                </a:solidFill>
                <a:latin typeface="Tahoma"/>
              </a:rPr>
              <a:t>Etude tests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cc"/>
                </a:solidFill>
                <a:latin typeface="Tahoma"/>
              </a:rPr>
              <a:t>Feuille excel management du développement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2514600"/>
          <a:ext cx="4038840" cy="23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14600"/>
                    <a:ext cx="403884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OEDL - Phase 5 Suivi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4C5-252B-48F6-AF28-6EA2EE7202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F2470-8D25-4EEA-B74C-76C37971C0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ncement Semaine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Technique (à la date du 07/11/02 au matin)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cc"/>
                </a:solidFill>
                <a:latin typeface="Tahoma"/>
              </a:rPr>
              <a:t>Heures prévues : 36 H + 5H de retard sur semaine 1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cc"/>
                </a:solidFill>
                <a:latin typeface="Tahoma"/>
              </a:rPr>
              <a:t>Heures effectuées : 6H30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Tahoma"/>
              </a:rPr>
              <a:t>Manage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cc"/>
                </a:solidFill>
                <a:latin typeface="Tahoma"/>
              </a:rPr>
              <a:t>Heures prévues : 18 H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cc"/>
                </a:solidFill>
                <a:latin typeface="Tahoma"/>
              </a:rPr>
              <a:t>Heures effectuées : 20H</a:t>
            </a: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OEDL - Phase 5 Suivi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65D5-5C2C-415C-978B-89C0B342BF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A2214-EEE1-4EF0-86E5-1D57AB8E9E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320" y="76320"/>
            <a:ext cx="8991360" cy="6248160"/>
          </a:xfrm>
          <a:prstGeom prst="roundRect">
            <a:avLst>
              <a:gd name="adj" fmla="val 444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ahoma"/>
              </a:rPr>
              <a:t>Techniqu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OEDL - Phase 5 Suivi 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04D8-1F46-4498-91A2-616A1E31619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8BE1C-648D-4F69-AF10-6C69DEB4D9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duit OED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IH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cc"/>
                </a:solidFill>
                <a:latin typeface="Tahoma"/>
              </a:rPr>
              <a:t>Intégration des IHM, début du codage des classes</a:t>
            </a:r>
            <a:endParaRPr b="0" lang="en-US" sz="20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Mise en place d’un processus de management de développemen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cc"/>
                </a:solidFill>
                <a:latin typeface="Tahoma"/>
              </a:rPr>
              <a:t>Feuille excel</a:t>
            </a:r>
            <a:endParaRPr b="0" lang="en-US" sz="20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Test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cc"/>
                </a:solidFill>
                <a:latin typeface="Tahoma"/>
              </a:rPr>
              <a:t>Etude</a:t>
            </a:r>
            <a:endParaRPr b="0" lang="en-US" sz="20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OEDL - Phase 5 Suivi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A4E-C3DA-4A19-8E1D-D06545E075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CF9B0-33F6-40E0-9D78-FBE0FF6A59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nuel Utilisate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ahoma"/>
              </a:rPr>
              <a:t>Etud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99cc"/>
                </a:solidFill>
                <a:latin typeface="Tahoma"/>
              </a:rPr>
              <a:t>Norme 1063</a:t>
            </a:r>
            <a:endParaRPr b="0" lang="en-US" sz="2000" spc="-1" strike="noStrike">
              <a:solidFill>
                <a:srgbClr val="0099c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OEDL - Phase 5 Suivi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D78-9E8B-4DE3-83D3-8DE00B558D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D315B-CF39-42C5-9D44-8782F4A88A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4T14:34:43Z</dcterms:created>
  <dc:creator> Frédéric Fourdrinier</dc:creator>
  <dc:description>version du 5/1/2002</dc:description>
  <dc:language>en-US</dc:language>
  <cp:lastModifiedBy>Baillin Alexandre</cp:lastModifiedBy>
  <dcterms:modified xsi:type="dcterms:W3CDTF">2002-11-07T23:03:01Z</dcterms:modified>
  <cp:revision>84</cp:revision>
  <dc:subject>promotion 2003</dc:subject>
  <dc:title>modèle slide</dc:title>
</cp:coreProperties>
</file>